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BD4-8CB1-4D51-B238-0495A3D7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FFC-6762-46B9-863D-588C83E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D63-5C6D-41A7-826B-57FDE11E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D10-335F-49BA-9389-DE226925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989-7423-4A4D-83AE-4D1754AF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881-A80D-4883-BEE5-4310893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EC2-BAAA-4B43-9A70-FC4EEFBB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05D-2C2E-46EB-8353-E8B47C78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789-183B-44F9-ADF3-0CB2AB2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8B7-46D6-4494-81DA-E89CE16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BC0-7EBC-4531-97DF-D458CF5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7AA-EB31-48A8-8A8D-FBDCE6C1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DE1-4C6B-4B9B-B1CB-9A63A16FC6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mperature and Humid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Nicole Adams,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y Schaef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istockphoto_1358719_thermometer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ier T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5 (71-67) =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7 – 6 = 61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1 + 6 = 77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thing below 61% and above 77% are outl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outliers: 53% and 54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idity of whol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6668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743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057400"/>
            <a:ext cx="12193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057400"/>
            <a:ext cx="609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4197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Humidit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 the outside humidity higher than the average humidity of the inside of the school of classrooms in everyday us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populations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35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-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mid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µ = 77%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µ &lt; 77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(t &lt; -9.85| df = 34) = 8.5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reject Ho in favor of Ha because the p-value of 8.5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2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&lt;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.05.  We have sufficient evidence that the average humidity inside of the school is less than that outside of the school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85800" y="259092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8288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9.8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5 % te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67.212, 70.5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% confident that the average humidity inside of the school is between 67.212 and 70.56 degre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2286000"/>
                <a:ext cx="1905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437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 the temperature on the left side of the school warmer than on the right side of the schoo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ndependent 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normal populations or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population so took 30%-part of our err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from Left s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1219320"/>
          <a:ext cx="6095880" cy="543384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  <a:gridCol w="18288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ph. H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. H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bra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From Right s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371600"/>
          <a:ext cx="6248160" cy="4797360"/>
        </p:xfrm>
        <a:graphic>
          <a:graphicData uri="http://schemas.openxmlformats.org/drawingml/2006/table">
            <a:tbl>
              <a:tblPr/>
              <a:tblGrid>
                <a:gridCol w="2209320"/>
                <a:gridCol w="1905120"/>
                <a:gridCol w="2133720"/>
              </a:tblGrid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y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's Lock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tn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red of feeling hot and cold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57200" y="167652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t in one classro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d in ano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nted to test if the temperatures throughout the school are diffe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pplies to all of us because we don’t know what we need to we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we should bring sweatshirts, or if we are going to be sweating all d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are the ones sitting in school all d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affect learning abi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a student is not comfor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ft and Right Temperature Graph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5115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 room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1295280"/>
            <a:ext cx="3276720" cy="5107680"/>
            <a:chOff x="609480" y="1295280"/>
            <a:chExt cx="3276720" cy="5107680"/>
          </a:xfrm>
        </p:grpSpPr>
        <p:sp>
          <p:nvSpPr>
            <p:cNvPr id="137" name=""/>
            <p:cNvSpPr/>
            <p:nvPr/>
          </p:nvSpPr>
          <p:spPr>
            <a:xfrm>
              <a:off x="609480" y="1295280"/>
              <a:ext cx="304812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 Sid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= 70.3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= 2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an = 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ndard deviation = .714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560" y="350496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560" y="571464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809880"/>
              <a:ext cx="45720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360" y="5410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60958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mperature (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ºF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760" y="3581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38098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94920" y="54100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52574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56386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4960" y="56386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5867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6360" y="5867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95680" y="1295280"/>
            <a:ext cx="3657600" cy="4878720"/>
            <a:chOff x="4495680" y="1295280"/>
            <a:chExt cx="3657600" cy="4878720"/>
          </a:xfrm>
        </p:grpSpPr>
        <p:grpSp>
          <p:nvGrpSpPr>
            <p:cNvPr id="152" name=""/>
            <p:cNvGrpSpPr/>
            <p:nvPr/>
          </p:nvGrpSpPr>
          <p:grpSpPr>
            <a:xfrm>
              <a:off x="4495680" y="3581280"/>
              <a:ext cx="3581280" cy="2592720"/>
              <a:chOff x="4495680" y="3581280"/>
              <a:chExt cx="3581280" cy="259272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0960" y="3581280"/>
                <a:ext cx="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0960" y="5333760"/>
                <a:ext cx="228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5680" y="4343040"/>
                <a:ext cx="838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15000" y="586692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mperature (ºF)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7280" y="4114440"/>
                <a:ext cx="380880" cy="12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81680" y="4343040"/>
                <a:ext cx="380880" cy="9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43800" y="5257440"/>
                <a:ext cx="45720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638320" y="411444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638320" y="434304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638320" y="525744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560" y="5333760"/>
                <a:ext cx="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10280" y="5257440"/>
                <a:ext cx="0" cy="22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72400" y="5333760"/>
                <a:ext cx="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57800" y="38858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57800" y="41907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3760" y="510516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0960" y="556236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81680" y="5562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2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19760" y="5562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3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028840" y="1295280"/>
              <a:ext cx="312444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 Sid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= 71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= 17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an = 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ndard deviation = 1.08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4343400" y="1142640"/>
            <a:ext cx="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4419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 room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wo sample T-t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emperatu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(t &lt; 2.209 |df=26.81) = .982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fail to reject Ho in favor of Ha because the p-value of .9821 is &gt; than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.05.  We have sufficient evidence that the mean of right side of temperature is not less than the mean of the left side tempera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09480" y="2590920"/>
                <a:ext cx="16192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228600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.20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 at 95%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.04973, 1.350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% confident that the difference between the mean of the temperature on the right side and the left side is between .04973° and 1.3505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62120" y="2206800"/>
                <a:ext cx="29718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 the humidity on the right side of the school less than the humidity on the left side of the schoo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ndependent 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normal populations or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population so took 30%-part of our err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ier T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5 (72-68) =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8 – 6 = 6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2 + 6 = 7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ything below 62% and above 78% on the left are outli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outlier: 5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5 (71.5-66) = 8.2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6 – 8.25 = 57.7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1.5 + 8.25 = 79.7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ything below 57.75% and above 79.75% on the right are outli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54"/>
          <p:cNvGrpSpPr/>
          <p:nvPr/>
        </p:nvGrpSpPr>
        <p:grpSpPr>
          <a:xfrm>
            <a:off x="685800" y="685800"/>
            <a:ext cx="7469280" cy="2133720"/>
            <a:chOff x="685800" y="685800"/>
            <a:chExt cx="7469280" cy="2133720"/>
          </a:xfrm>
        </p:grpSpPr>
        <p:sp>
          <p:nvSpPr>
            <p:cNvPr id="191" name="Rectangle 4"/>
            <p:cNvSpPr/>
            <p:nvPr/>
          </p:nvSpPr>
          <p:spPr>
            <a:xfrm>
              <a:off x="6172200" y="685800"/>
              <a:ext cx="68580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6"/>
            <p:cNvSpPr/>
            <p:nvPr/>
          </p:nvSpPr>
          <p:spPr>
            <a:xfrm>
              <a:off x="6858360" y="1752840"/>
              <a:ext cx="1295280" cy="144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14"/>
            <p:cNvSpPr/>
            <p:nvPr/>
          </p:nvSpPr>
          <p:spPr>
            <a:xfrm flipH="1">
              <a:off x="8153640" y="1295280"/>
              <a:ext cx="1440" cy="99072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Flowchart: Connector 16"/>
            <p:cNvSpPr/>
            <p:nvPr/>
          </p:nvSpPr>
          <p:spPr>
            <a:xfrm>
              <a:off x="685800" y="1676520"/>
              <a:ext cx="152280" cy="152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4648320" y="685800"/>
              <a:ext cx="152388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21"/>
            <p:cNvSpPr/>
            <p:nvPr/>
          </p:nvSpPr>
          <p:spPr>
            <a:xfrm>
              <a:off x="4114800" y="1752840"/>
              <a:ext cx="533160" cy="144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22"/>
            <p:cNvSpPr/>
            <p:nvPr/>
          </p:nvSpPr>
          <p:spPr>
            <a:xfrm flipH="1">
              <a:off x="4113360" y="1295280"/>
              <a:ext cx="1440" cy="99072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98" name="Group 31" descr=""/>
          <p:cNvPicPr/>
          <p:nvPr/>
        </p:nvPicPr>
        <p:blipFill>
          <a:blip r:embed="rId1"/>
          <a:stretch/>
        </p:blipFill>
        <p:spPr>
          <a:xfrm>
            <a:off x="3108240" y="4327560"/>
            <a:ext cx="5749920" cy="21700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2"/>
          <p:cNvGrpSpPr/>
          <p:nvPr/>
        </p:nvGrpSpPr>
        <p:grpSpPr>
          <a:xfrm>
            <a:off x="685800" y="3276720"/>
            <a:ext cx="8155080" cy="533160"/>
            <a:chOff x="685800" y="3276720"/>
            <a:chExt cx="8155080" cy="533160"/>
          </a:xfrm>
        </p:grpSpPr>
        <p:sp>
          <p:nvSpPr>
            <p:cNvPr id="200" name="Straight Connector 36"/>
            <p:cNvSpPr/>
            <p:nvPr/>
          </p:nvSpPr>
          <p:spPr>
            <a:xfrm>
              <a:off x="685800" y="3505320"/>
              <a:ext cx="815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9"/>
            <p:cNvSpPr/>
            <p:nvPr/>
          </p:nvSpPr>
          <p:spPr>
            <a:xfrm flipH="1">
              <a:off x="68580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40"/>
            <p:cNvSpPr/>
            <p:nvPr/>
          </p:nvSpPr>
          <p:spPr>
            <a:xfrm flipH="1">
              <a:off x="693432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41"/>
            <p:cNvSpPr/>
            <p:nvPr/>
          </p:nvSpPr>
          <p:spPr>
            <a:xfrm flipH="1">
              <a:off x="617220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42"/>
            <p:cNvSpPr/>
            <p:nvPr/>
          </p:nvSpPr>
          <p:spPr>
            <a:xfrm flipH="1">
              <a:off x="396252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43"/>
            <p:cNvSpPr/>
            <p:nvPr/>
          </p:nvSpPr>
          <p:spPr>
            <a:xfrm flipH="1">
              <a:off x="312408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5"/>
            <p:cNvSpPr/>
            <p:nvPr/>
          </p:nvSpPr>
          <p:spPr>
            <a:xfrm flipH="1">
              <a:off x="815364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6"/>
            <p:cNvSpPr/>
            <p:nvPr/>
          </p:nvSpPr>
          <p:spPr>
            <a:xfrm flipH="1">
              <a:off x="883944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8" name="TextBox 55"/>
          <p:cNvSpPr/>
          <p:nvPr/>
        </p:nvSpPr>
        <p:spPr>
          <a:xfrm>
            <a:off x="4572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56"/>
          <p:cNvSpPr/>
          <p:nvPr/>
        </p:nvSpPr>
        <p:spPr>
          <a:xfrm>
            <a:off x="2895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57"/>
          <p:cNvSpPr/>
          <p:nvPr/>
        </p:nvSpPr>
        <p:spPr>
          <a:xfrm>
            <a:off x="37339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58"/>
          <p:cNvSpPr/>
          <p:nvPr/>
        </p:nvSpPr>
        <p:spPr>
          <a:xfrm>
            <a:off x="59436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59"/>
          <p:cNvSpPr/>
          <p:nvPr/>
        </p:nvSpPr>
        <p:spPr>
          <a:xfrm>
            <a:off x="67057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Box 60"/>
          <p:cNvSpPr/>
          <p:nvPr/>
        </p:nvSpPr>
        <p:spPr>
          <a:xfrm>
            <a:off x="79246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61"/>
          <p:cNvSpPr/>
          <p:nvPr/>
        </p:nvSpPr>
        <p:spPr>
          <a:xfrm>
            <a:off x="8610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63"/>
          <p:cNvSpPr/>
          <p:nvPr/>
        </p:nvSpPr>
        <p:spPr>
          <a:xfrm>
            <a:off x="457200" y="91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ft S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64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ight S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vs Right Humidity Graph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wo sample t-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mid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(t &lt; -.217| df=34.96) = .414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fail to reject Ho in favor of Ha because the p-value of .4143 is &gt;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= .05. We have sufficient evidence that the humidity on the right side of the school is not less than that on the left side of the schoo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09480" y="2590920"/>
                <a:ext cx="175284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36232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.21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5%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-2.821, 2.2738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 % confident that the difference between the mean of humidity on the right side and the left side is between -2.821% and 2.2738 % humid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480" y="2209680"/>
                <a:ext cx="32004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sonal Opin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ught right was cooler because sun hit the left in the mor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hought temperature changed but humidity’s were chan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r. Lafferty’s classroom compared to Boy’s Locker ro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 it interesting that temperatures did not fit what the school claims to be, a bit cool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oms being cold and hot are in our heads but the humidity is what is chang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mbered Classro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ok a SRS of the whole school (3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lit left and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ok 2 individual SRS (30% of classroom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/68- left , 17/55-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rded temperature and humidity of ro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dnesday 6/4/08 first blo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rrors/B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pulation is very small- 123 rooms (everyday u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ime of day/position of the sun (could change throughout the day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set temperatures around the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mometer only adjusted in room for 30 seco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students were in the room or no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ld change day to day since humidity was cha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dnesday was humid and wet ou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from whol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371600"/>
          <a:ext cx="4038840" cy="5084640"/>
        </p:xfrm>
        <a:graphic>
          <a:graphicData uri="http://schemas.openxmlformats.org/drawingml/2006/table">
            <a:tbl>
              <a:tblPr/>
              <a:tblGrid>
                <a:gridCol w="1368720"/>
                <a:gridCol w="1106280"/>
                <a:gridCol w="1563840"/>
              </a:tblGrid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ph. H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u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 Sto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2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bra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800600" y="1371600"/>
          <a:ext cx="3962520" cy="504324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067040"/>
              </a:tblGrid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34F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.D. Off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. Gy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2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men's Lock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's Lock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tn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le Temperature Gra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209680"/>
            <a:ext cx="3276720" cy="32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= 70.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3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= 7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deviation = .97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752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03848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981080"/>
            <a:ext cx="457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276720"/>
            <a:ext cx="457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4572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09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room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ºF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9984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9984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191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438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oes the temperature match what the average school temperature is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populations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35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-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emperatu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 µ=72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 µ≠72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(t&lt;-8.485|df=34) = 6.56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reject Ho in favor of Ha because the p-value of  6.56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0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&lt;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.05.  We have sufficient evidence that the mean temperature in the school does not equal 72°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2743200"/>
                <a:ext cx="10414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200" y="2971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971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-8.48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 at 95%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70.265, 70.93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% confident that the mean of the temperature of the whole school is between 70.265° and 70.935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2362320"/>
                <a:ext cx="20574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1:29:22Z</dcterms:created>
  <dc:creator> </dc:creator>
  <dc:description/>
  <dc:language>en-US</dc:language>
  <cp:lastModifiedBy>Kaycee Schaefer</cp:lastModifiedBy>
  <dcterms:modified xsi:type="dcterms:W3CDTF">2008-06-08T18:46:58Z</dcterms:modified>
  <cp:revision>18</cp:revision>
  <dc:subject/>
  <dc:title>Temperature and Humidity</dc:title>
</cp:coreProperties>
</file>